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68D-CC7C-4762-BA29-C6A45E9E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184-BFAD-464A-A947-169F6F6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292-FE6B-4A03-80BA-EAE6CAA7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418-90EE-476A-8DE3-B8E73628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978-721C-42B1-B696-5FA37FF0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C11-6969-402E-B31D-2CC2E29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464-A89B-4B8F-BE24-4A467BA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58B-2E02-484E-8BF6-D8EC2902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8A6-7728-453F-B6FD-A20AB2D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EED-4217-4A05-A5D8-20F64A2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2B6-6F8C-45C0-9E60-EA8985F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308-C7E3-4ED0-80A5-D342CEF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DA2-760E-42ED-AFB8-DDC8A30EB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800" y="2286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rchery Targe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828800"/>
            <a:ext cx="8534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cros in this file generate either NFAA 5 or single spot or Vegas 3 or single spot targets scaled for yardages less than the standard 20 yards or 18 meters, respectively.  To run either of the macros, click 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NFAA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NFAA_5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vegas_3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vegas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8:48:26Z</dcterms:created>
  <dc:creator>Scot E. Heath</dc:creator>
  <dc:description/>
  <dc:language>en-US</dc:language>
  <cp:lastModifiedBy>Scot E. Heath</cp:lastModifiedBy>
  <dcterms:modified xsi:type="dcterms:W3CDTF">2002-09-06T15:55:15Z</dcterms:modified>
  <cp:revision>102</cp:revision>
  <dc:subject/>
  <dc:title>PowerPoint Presentation</dc:title>
</cp:coreProperties>
</file>