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6D94-29AD-4F58-A382-61F9EDFE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1FC-0FEF-4332-9468-3E0FB0B6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D28-DC99-45EE-A873-086A5F34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DC2-09C4-4D89-BE4E-75FB23C9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623-A752-4441-B115-533FD593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712-A4F1-4C52-9856-0CB1E27B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6DD-BE86-45FA-81E3-49647010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20E8-B400-447B-B60C-71CB2FD3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A0A-4A06-4A66-84B3-643F81E2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725-E203-4A01-AD57-7D69EED6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F319-52CF-49E9-8C93-3D7FD323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523-4406-4915-BF84-E06A70EE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2AB5-49C0-45BF-8454-62F8EA3C6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7800" y="22860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Archery Targe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828800"/>
            <a:ext cx="85341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cros in this file generates NFAA 5 or single spot, Vegas 3 or single spot, or FITA 60cm single spot targets scaled for yardages less than the standard 20 yards (NFAA) or 18 meters (Vegas, FITA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also generate FITA 80cm or 122cm single spot targets scaled to a user specified factor, that is; the yardage actually shot divided by the standard yardag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run any of the macros, click 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-&gt;Macro-&gt;Macros-&gt;scale_NFAA_1_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-&gt;Macro-&gt;Macros-&gt;scale_NFAA_5_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-&gt;Macro-&gt;Macros-&gt;scale_vegas_3_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-&gt;Macro-&gt;Macros-&gt;scale_vegas_1_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-&gt;Macro-&gt;Macros-&gt;scale_FITA_60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-&gt;Macro-&gt;Macros-&gt;scale_FITA_80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-&gt;Macro-&gt;Macros-&gt;scale_FITA_122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joy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8:48:26Z</dcterms:created>
  <dc:creator>Scot E. Heath</dc:creator>
  <dc:description/>
  <dc:language>en-US</dc:language>
  <cp:lastModifiedBy>Scot E. Heath</cp:lastModifiedBy>
  <dcterms:modified xsi:type="dcterms:W3CDTF">2005-05-19T22:40:52Z</dcterms:modified>
  <cp:revision>150</cp:revision>
  <dc:subject/>
  <dc:title>PowerPoint Presentation</dc:title>
</cp:coreProperties>
</file>