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2F3-AF2D-41B0-804B-033EF8E6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F17-661C-4768-8504-1A71A672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CFB-0A0E-4097-9886-1CB0608C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65E-DFCB-4104-9811-CAB8F66A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449-F50A-4692-B549-8A60FC7C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39F-54B5-4F4E-8CE6-DB529D45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253E-F625-4F33-B507-7AB0C64D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4EF-3B51-417F-8DFB-EE5D8FF8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5DD-1817-46F0-B3A8-B410BDC9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91A-B022-46C6-82EB-17BA4C17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9A3-AA36-4672-B63C-B593D7EA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63B-0D32-48CC-A50E-A0378690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C3A5-B35D-4C58-BDB1-31C9C120F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87800" y="22860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Archery Targe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1828800"/>
            <a:ext cx="8534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cros in this file generates NFAA 5 or single spot, Vegas 3 or single spot, or FITA 60cm single spot targets scaled for yardages less than the standard 20 yards (NFAA) or 18 meters (Vegas, FITA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lso generate FITA 80cm or 122cm single spot targets scaled to a user specified factor, that is; the yardage actually shot divided by the standard yardag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run any of the macros, click 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&gt;Macros-&gt;scale_NFAA_1_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&gt;Macros-&gt;scale_NFAA_5_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&gt;Macros-&gt;scale_vegas_3_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&gt;Macros-&gt;scale_vegas_1_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&gt;Macros-&gt;scale_FITA_60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&gt;Macros-&gt;scale_FITA_80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&gt;Macros-&gt;scale_FITA_122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joy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8:48:26Z</dcterms:created>
  <dc:creator>Scot E. Heath</dc:creator>
  <dc:description/>
  <dc:language>en-US</dc:language>
  <cp:lastModifiedBy>Scot Heath</cp:lastModifiedBy>
  <dcterms:modified xsi:type="dcterms:W3CDTF">2016-07-25T19:13:37Z</dcterms:modified>
  <cp:revision>151</cp:revision>
  <dc:subject/>
  <dc:title>PowerPoint Presentation</dc:title>
</cp:coreProperties>
</file>